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AA0-826F-4A40-A8C9-DA6D430C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D94-F7AE-44EC-84F7-BB21C9FC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3EB-03E3-4E0D-89EF-85D1ACD3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B6C-5CE8-47FF-8579-3B4973B7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CB45-B630-4E8D-A690-07891938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704F-65E5-4245-8DF3-9ABD6561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D558-DCDF-4FBE-923F-71FD4B7B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FA7A-1821-489E-B1CD-0C40936C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B8B7-7657-4724-A8E8-5DA67021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71BB-3C6E-4600-8543-C064BE2D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BF24-0848-414C-8353-E4D47263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EDC-D7AB-497F-9AD2-150D3FAE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F15C-B447-402E-A272-C4BEA56D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040C-6B8D-4D0F-A9E8-7C368E49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DDD9-272E-4FA0-BC09-40532503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0CF0-48DA-4CA1-9A22-2724E538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0605-CC3C-4435-98E8-951E32C1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3CE-65D2-4AC8-972B-898F36E7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615-E2CA-48DD-A67E-29C28700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CB0-388C-4843-A41E-A8EABA00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17D-E1A6-4D98-BB80-BD00A35E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A30-4C39-45F5-9744-4F0CF733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09F-1606-40B6-BB87-CD93B979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2B5-B8F1-43BA-AD8B-39A00464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B2A6-BD5B-4B0B-8E83-10203208C83F}" type="slidenum">
              <a:rPr b="0" lang="es-E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1C02-069E-4B89-86FA-2AA1992DA307}" type="slidenum">
              <a:rPr b="0" lang="es-E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CICLO 201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Arial Black"/>
              </a:rPr>
              <a:t>ACTUALIZACIÓN DE REGISTROS ORGANIZACIONAL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160C-C8F4-4667-A1F0-1D8B8EDDB03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12/10/2011</a:t>
            </a:r>
            <a:br>
              <a:rPr sz="4400"/>
            </a:b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DE 18:30 A 20:30 H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619280" y="2924280"/>
            <a:ext cx="612144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Arial Black"/>
              </a:rPr>
              <a:t>EL DOCUMENTO ELECTRÓNICO Y COMO VERIFICAR SU AUTENTICIDAD E INTEGRIDA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692-1DA0-4976-9F48-753978C7AA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29/11/2011</a:t>
            </a:r>
            <a:br>
              <a:rPr sz="4400"/>
            </a:b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DE 18:30 A 20:30 H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03280" y="3213000"/>
            <a:ext cx="612144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Arial Black"/>
              </a:rPr>
              <a:t>SEGURIDAD DE LA DOCUMENTACIÓN Y SUS REGISTRO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30D-58E2-42FC-BEE0-D485A5FACA29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ETAPA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763640" y="3068280"/>
            <a:ext cx="612144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Arial Black"/>
              </a:rPr>
              <a:t>REGISTROS Y DOCUMENTACIÓN VIGENTE: LEGAL FORM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465-1EF3-406C-81F5-CB7A2A4561C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14/04/2011</a:t>
            </a:r>
            <a:br>
              <a:rPr sz="4400"/>
            </a:b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DE 9:00 A 13:0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31640" y="3213000"/>
            <a:ext cx="655308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Arial Black"/>
              </a:rPr>
              <a:t>REGISTROS VIGENTES, SUS FORMAS AUTORIZADAS Y SU EVOLUCIÓN FUTUR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AFD-1C83-4EE7-B7F1-9C2D8C61BA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12/05/2011</a:t>
            </a:r>
            <a:br>
              <a:rPr sz="4400"/>
            </a:b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DE 18:30 A 20:30 H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547280" y="2924280"/>
            <a:ext cx="640908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Arial Black"/>
              </a:rPr>
              <a:t>TALLERES DEL ART. 61 DE LA LEY 19.550 Y ART. 282 DE LA RES. GRAL. IGJ 07/200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6A9-2A75-4B7B-8DC4-95BB8B5FAD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21/06/2011</a:t>
            </a:r>
            <a:br>
              <a:rPr sz="4400"/>
            </a:b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DE 9:00 A 13:00 H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76000" y="3141720"/>
            <a:ext cx="525636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Arial Black"/>
              </a:rPr>
              <a:t>DOCUMENTACIÓN LABOR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0DC-06B9-4907-9D81-7585F9AA72C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14/07/2011</a:t>
            </a:r>
            <a:br>
              <a:rPr sz="4400"/>
            </a:b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DE 18:30 A 20:30 H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85228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Arial Black"/>
              </a:rPr>
              <a:t>RESPONSABILIDAD DEL PROFESIONAL EN CIENCIAS ECONÓMICAS ANTE LA LEY 25.326 DE PROTECCIÓN DE DATOS PERSONAL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9A5B-6237-4BC1-B0B2-B4F3DA2B81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ETAPA I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662472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Arial Black"/>
              </a:rPr>
              <a:t>INTEGRIDAD Y AUTENTICIDAD DE LOS REGISTROS Y SU DOCUMENTACIÓN RESPALDATORI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6DE-A2A2-4324-9A08-05FBBED8A26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23/08/2011</a:t>
            </a:r>
            <a:br>
              <a:rPr sz="4400"/>
            </a:b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DE 9:00 A 13:0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18920" y="3141720"/>
            <a:ext cx="547380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Arial Black"/>
              </a:rPr>
              <a:t>TALLER DE PROTECCIÓN DE DATOS PERSONAL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44B-C9AA-462F-B9B7-9BFA702E756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13/09/2011</a:t>
            </a:r>
            <a:br>
              <a:rPr sz="4400"/>
            </a:br>
            <a:r>
              <a:rPr b="0" lang="es-AR" sz="4400" spc="-1" strike="noStrike">
                <a:solidFill>
                  <a:srgbClr val="ffffff"/>
                </a:solidFill>
                <a:latin typeface="Arial Black"/>
              </a:rPr>
              <a:t>DE 18:30 A 20:30 H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834920" y="2997000"/>
            <a:ext cx="561636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Arial Black"/>
              </a:rPr>
              <a:t>AUTENTICIDAD DE LA DOCUMENTACIÓN FÍSIC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281-BF71-45B1-B2AC-85B131CF15F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6:23:23Z</dcterms:created>
  <dc:creator>Usuario</dc:creator>
  <dc:description/>
  <dc:language>en-US</dc:language>
  <cp:lastModifiedBy>CPCEACABA</cp:lastModifiedBy>
  <dcterms:modified xsi:type="dcterms:W3CDTF">2011-04-12T18:03:57Z</dcterms:modified>
  <cp:revision>7</cp:revision>
  <dc:subject/>
  <dc:title>CICLO 2011</dc:title>
</cp:coreProperties>
</file>